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459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095880" y="60199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5438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3059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629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880" y="1754280"/>
            <a:ext cx="77706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Plo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Plot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iming and Pa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ash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ash-For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reshado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594360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5438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 Struc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7016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Com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905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main character takes action but encounters more problems or complic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809880"/>
            <a:ext cx="419076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aul goes to work on a nearby farm to earn extra money. There, he meets Miranda, and the two start dat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AA051655.JPG"/>
          <p:cNvPicPr/>
          <p:nvPr/>
        </p:nvPicPr>
        <p:blipFill>
          <a:blip r:embed="rId2"/>
          <a:srcRect l="29262" t="0" r="0" b="0"/>
          <a:stretch/>
        </p:blipFill>
        <p:spPr>
          <a:xfrm>
            <a:off x="2666880" y="3429000"/>
            <a:ext cx="173844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TWF0059E.jpg"/>
          <p:cNvPicPr/>
          <p:nvPr/>
        </p:nvPicPr>
        <p:blipFill>
          <a:blip r:embed="rId3"/>
          <a:stretch/>
        </p:blipFill>
        <p:spPr>
          <a:xfrm>
            <a:off x="533520" y="4213080"/>
            <a:ext cx="2590560" cy="1730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581280" y="1600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343560" y="250200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24600" y="3276720"/>
            <a:ext cx="3485880" cy="2543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 Struc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37016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Clim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906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key scene in the story—the most tense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citing, or terrifying mo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eals the outcome of the 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33680" y="15876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886360" y="25020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648480" y="3035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8080" y="3962520"/>
            <a:ext cx="44197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aul and Miranda argue about his leaving for university. Paul must choose to stay or 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485880" cy="25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 Struc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37016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4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Resolution,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denou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nal part of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440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nflict is res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581280"/>
            <a:ext cx="48765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aul decides to leave for university. Miranda makes plans to visit him and wishes him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514760" y="2120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667400" y="26542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67440" y="4200480"/>
            <a:ext cx="2543040" cy="1743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iming and Pac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ot of a story is framed by a time span that suits the writer’s purpo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BIC2048F.JPG"/>
          <p:cNvPicPr/>
          <p:nvPr/>
        </p:nvPicPr>
        <p:blipFill>
          <a:blip r:embed="rId3"/>
          <a:stretch/>
        </p:blipFill>
        <p:spPr>
          <a:xfrm>
            <a:off x="533520" y="3457440"/>
            <a:ext cx="2485800" cy="2486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3002040"/>
            <a:ext cx="137160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minu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5364000"/>
            <a:ext cx="990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hou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RCI0037D.JPG"/>
          <p:cNvPicPr/>
          <p:nvPr/>
        </p:nvPicPr>
        <p:blipFill>
          <a:blip r:embed="rId4"/>
          <a:stretch/>
        </p:blipFill>
        <p:spPr>
          <a:xfrm>
            <a:off x="5410080" y="2895480"/>
            <a:ext cx="131148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29400" y="2971800"/>
            <a:ext cx="8380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d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143680" y="5257800"/>
            <a:ext cx="114300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wee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3962520"/>
            <a:ext cx="990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yea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iming and Pac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ost stories are told i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hronological order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 order in which events unfold in real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2004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2004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2004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Thi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320040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657600"/>
            <a:ext cx="4572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3657600"/>
            <a:ext cx="4572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657600"/>
            <a:ext cx="4572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iming and Pac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metimes, writers might manipulate time to control our emotions. They m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2860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low down time to emphasize a moment of dan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5812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ed up time to skip over events that don’t move the story a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BIC0012D.JPG"/>
          <p:cNvPicPr/>
          <p:nvPr/>
        </p:nvPicPr>
        <p:blipFill>
          <a:blip r:embed="rId2"/>
          <a:stretch/>
        </p:blipFill>
        <p:spPr>
          <a:xfrm>
            <a:off x="7267680" y="3807000"/>
            <a:ext cx="1342800" cy="1679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JIT0036D.JPG"/>
          <p:cNvPicPr/>
          <p:nvPr/>
        </p:nvPicPr>
        <p:blipFill>
          <a:blip r:embed="rId3"/>
          <a:stretch/>
        </p:blipFill>
        <p:spPr>
          <a:xfrm>
            <a:off x="7134120" y="2057400"/>
            <a:ext cx="1171800" cy="1752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JIT0014D.JPG"/>
          <p:cNvPicPr/>
          <p:nvPr/>
        </p:nvPicPr>
        <p:blipFill>
          <a:blip r:embed="rId4"/>
          <a:stretch/>
        </p:blipFill>
        <p:spPr>
          <a:xfrm>
            <a:off x="6359400" y="3263760"/>
            <a:ext cx="1108080" cy="166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962680" y="19684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362320" y="32004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lashback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lashback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a scene that interrupts the present action of the plot to flash backward and tell what happened at an earlier time. Flashbacks 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572000"/>
            <a:ext cx="1143000" cy="8380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  <a:effectLst>
            <a:outerShdw dist="153753" dir="2700000" blurRad="0" rotWithShape="0">
              <a:srgbClr val="1e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63196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background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3537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rengthen our understanding of a 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3200400"/>
            <a:ext cx="2057400" cy="205740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432720 h 2057400"/>
              <a:gd name="textAreaBottom" fmla="*/ 14191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87" stAng="-5400000" swAng="5400000"/>
                <a:lnTo>
                  <a:pt x="21600" y="10353"/>
                </a:lnTo>
                <a:arcTo wR="21600" hR="9087" stAng="0" swAng="2997370"/>
                <a:lnTo>
                  <a:pt x="7200" y="21080"/>
                </a:lnTo>
                <a:lnTo>
                  <a:pt x="0" y="18807"/>
                </a:lnTo>
                <a:lnTo>
                  <a:pt x="7200" y="15494"/>
                </a:lnTo>
                <a:lnTo>
                  <a:pt x="7200" y="17654"/>
                </a:lnTo>
                <a:arcTo wR="21600" hR="9087" stAng="2997370" swAng="-2896408"/>
                <a:lnTo>
                  <a:pt x="21548" y="9720"/>
                </a:lnTo>
                <a:arcTo wR="21600" hR="9087" stAng="-100961" swAng="-5299039"/>
                <a:close/>
              </a:path>
              <a:path fill="darkenLess" w="21600" h="21600">
                <a:moveTo>
                  <a:pt x="0" y="0"/>
                </a:moveTo>
                <a:arcTo wR="21600" hR="9087" stAng="-5400000" swAng="5400000"/>
                <a:lnTo>
                  <a:pt x="21600" y="10353"/>
                </a:lnTo>
                <a:arcTo wR="21600" hR="9087" stAng="0" swAng="-100961"/>
                <a:lnTo>
                  <a:pt x="21548" y="9720"/>
                </a:lnTo>
                <a:arcTo wR="21600" hR="9087" stAng="-100961" swAng="-5299039"/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743200"/>
            <a:ext cx="14479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62880" y="22860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067200" y="31878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lash-Forwar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lash-Forwar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a scene that interrupts the present action of the plot to shift into the fu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4572000"/>
            <a:ext cx="1143000" cy="83808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  <a:effectLst>
            <a:outerShdw dist="153753" dir="2700000" blurRad="0" rotWithShape="0">
              <a:srgbClr val="1e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33400" y="3048120"/>
            <a:ext cx="2057400" cy="205740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432720 h 2057400"/>
              <a:gd name="textAreaBottom" fmla="*/ 14191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87" stAng="-5400000" swAng="5400000"/>
                <a:lnTo>
                  <a:pt x="21600" y="10353"/>
                </a:lnTo>
                <a:arcTo wR="21600" hR="9087" stAng="0" swAng="2997370"/>
                <a:lnTo>
                  <a:pt x="7200" y="21080"/>
                </a:lnTo>
                <a:lnTo>
                  <a:pt x="0" y="18807"/>
                </a:lnTo>
                <a:lnTo>
                  <a:pt x="7200" y="15494"/>
                </a:lnTo>
                <a:lnTo>
                  <a:pt x="7200" y="17654"/>
                </a:lnTo>
                <a:arcTo wR="21600" hR="9087" stAng="2997370" swAng="-2896408"/>
                <a:lnTo>
                  <a:pt x="21548" y="9720"/>
                </a:lnTo>
                <a:arcTo wR="21600" hR="9087" stAng="-100961" swAng="-5299039"/>
                <a:close/>
              </a:path>
              <a:path fill="darkenLess" w="21600" h="21600">
                <a:moveTo>
                  <a:pt x="0" y="0"/>
                </a:moveTo>
                <a:arcTo wR="21600" hR="9087" stAng="-5400000" swAng="5400000"/>
                <a:lnTo>
                  <a:pt x="21600" y="10353"/>
                </a:lnTo>
                <a:arcTo wR="21600" hR="9087" stAng="0" swAng="-100961"/>
                <a:lnTo>
                  <a:pt x="21548" y="9720"/>
                </a:lnTo>
                <a:arcTo wR="21600" hR="9087" stAng="-100961" swAng="-5299039"/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2514600"/>
            <a:ext cx="144792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ash-forwards can create dramatic irony. The readers know what will happen in the future, but the characters don’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305920" y="19684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oreshadowing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oreshadowing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he use of clues to hint at events that will occur later in the plo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oreshadowing can make a story more exciting by increasing suspen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28480" y="1370160"/>
            <a:ext cx="808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               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Choose a children’s story or fairy tale that is familiar to yo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8480" y="2209680"/>
            <a:ext cx="518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Draw a </a:t>
            </a: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plot diagram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like the one shown her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Add labels describing the key parts of the story’s plo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your imagination to write a </a:t>
            </a: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flashback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that could occur in one part of the st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067440" y="205740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Plot?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016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lot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series of related events that make up a story or dra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263844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3553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links in a chain, each event hooks our curiosity and pulls us forward to the next ev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16440" y="1447920"/>
            <a:ext cx="277992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601992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543400" cy="3485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37016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the struggle or clash between opposing characters or forces. Conflicts may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803680"/>
            <a:ext cx="25905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external: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refighter vs. f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632480"/>
            <a:ext cx="38102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internal: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refighter vs. his or her f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14760" y="23493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3794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external conflict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y be a struggle betw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905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3553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wo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3553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character and a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98764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9800" indent="-3553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character and something nonhu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27325.JPG"/>
          <p:cNvPicPr/>
          <p:nvPr/>
        </p:nvPicPr>
        <p:blipFill>
          <a:blip r:embed="rId2"/>
          <a:srcRect l="0" t="0" r="0" b="4265"/>
          <a:stretch/>
        </p:blipFill>
        <p:spPr>
          <a:xfrm>
            <a:off x="7451640" y="228600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400960" y="1600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81280" y="2120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971960" y="26542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118088.JPG"/>
          <p:cNvPicPr/>
          <p:nvPr/>
        </p:nvPicPr>
        <p:blipFill>
          <a:blip r:embed="rId6"/>
          <a:srcRect l="9276" t="0" r="21321" b="0"/>
          <a:stretch/>
        </p:blipFill>
        <p:spPr>
          <a:xfrm>
            <a:off x="6095880" y="2286000"/>
            <a:ext cx="114300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SCH2061E.JPG"/>
          <p:cNvPicPr/>
          <p:nvPr/>
        </p:nvPicPr>
        <p:blipFill>
          <a:blip r:embed="rId7"/>
          <a:stretch/>
        </p:blipFill>
        <p:spPr>
          <a:xfrm>
            <a:off x="6095880" y="4113360"/>
            <a:ext cx="2514600" cy="167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internal conflict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a struggle that takes place within a character’s mind or hea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228600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s struggle with themselves to make decis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14960" y="1905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2457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43600" y="172260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s this an external or internal conflic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37016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3701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811160"/>
            <a:ext cx="5181480" cy="314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insford knew he could do one of two things. He could stay where he was and wait. That was suicide. He could flee. That was postponing the inevitable. For a moment he stood there, thinking. An idea that held a wild chance came to him, and, tightening his belt, he headed away from the swa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Most Dangerous Game” by Richard Conn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3160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91320" y="5105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048120"/>
            <a:ext cx="243828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ternal confli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13800" y="3618000"/>
            <a:ext cx="796680" cy="420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3600" y="172260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s this an external or internal conflic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37016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3701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811160"/>
            <a:ext cx="5181480" cy="314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insford knew he could do one of two things. He could stay where he was and wait. That was suicide. He could flee. That was postponing the inevitable. For a moment he stood there, thinking. An idea that held a wild chance came to him, and, tightening his belt, he headed away from the swam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The Most Dangerous Game” by Richard Conn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 Struc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lots are usually built in four major par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029200"/>
            <a:ext cx="99036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3124080"/>
            <a:ext cx="4343400" cy="1905120"/>
          </a:xfrm>
          <a:prstGeom prst="line">
            <a:avLst/>
          </a:prstGeom>
          <a:ln w="28440">
            <a:solidFill>
              <a:srgbClr val="ff9933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124080"/>
            <a:ext cx="1524240" cy="609840"/>
          </a:xfrm>
          <a:prstGeom prst="line">
            <a:avLst/>
          </a:prstGeom>
          <a:ln w="28440">
            <a:solidFill>
              <a:srgbClr val="ff9933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3733920"/>
            <a:ext cx="121896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1055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asic Situation/Ex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3064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514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870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15200" y="16002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5880" y="60199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85880" cy="254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lot Structur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pening of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370160"/>
            <a:ext cx="457200" cy="457200"/>
          </a:xfrm>
          <a:prstGeom prst="flowChartDelay">
            <a:avLst/>
          </a:prstGeom>
          <a:solidFill>
            <a:srgbClr val="66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Basic situation,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s and their conflicts are introduc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175280"/>
            <a:ext cx="60958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aul wants to go to an out-of-state university, but his family can only afford to pay the tuition at a local colle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362480" y="2120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96400" y="265428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57:50Z</dcterms:created>
  <dc:creator>Amber </dc:creator>
  <dc:description/>
  <dc:language>en-US</dc:language>
  <cp:lastModifiedBy>stevenh</cp:lastModifiedBy>
  <dcterms:modified xsi:type="dcterms:W3CDTF">2005-11-21T20:50:21Z</dcterms:modified>
  <cp:revision>36</cp:revision>
  <dc:subject/>
  <dc:title>Elements of Literature Plot</dc:title>
</cp:coreProperties>
</file>